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6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2.png" ContentType="image/png"/>
  <Override PartName="/ppt/media/image35.wmf" ContentType="image/x-wmf"/>
  <Override PartName="/ppt/media/image15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6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6CA3-9C00-417C-85CA-868B27FFE4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мида (Юстиция)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и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я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ей Гре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означ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язка на глаз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ч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мида (Юстиция)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и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я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ей Гре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означа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язка на глаза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ч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Администартивный процесс</a:t>
            </a:r>
            <a:br>
              <a:rPr sz="400"/>
            </a:b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 (адм-процессуальное право)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Административный процесс — это порядок осуществления государственно-управленческой деятельности, с целью реализации норм административного права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артивный процес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адм-процессуальн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й процесс — это порядок осуществления государственно-управленческой деятельности, с целью реализации норм административн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тель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я открывает заседан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вляет, какое дело рассматривает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яет явку участников проце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аляет из зала заседания свидетел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вляет состав су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тельный эта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я открывает заседани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вляет, какое дело рассматриваетс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яет явку участников процес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аляет из зала заседания свидетеле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вляет состав су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Уважаемый суд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участники процесса должны давать свои показания и объяснения стоя, к суду обращаются со словами: «Уважаемый суд!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Уважаемый суд!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участники процесса должны давать свои показания и объяснения стоя, к суду обращаются со словами: «Уважаемый суд!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этап- рассмотрение сути д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я докладывает дел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яет, поддерживает ли истец свои требова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ет ли ответчик треб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желают ли стороны закончить дело ми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этап- рассмотрение сути д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я докладывает дел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яет, поддерживает ли истец свои требован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ет ли ответчик треб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желают ли стороны закончить дело мир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этап- рассмотрение д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этого судья заслушивает объяснения лиц, участвующих в деле (и соответственно их представителей), в следующей последовательнос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ец, третьи лица на стороне истц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чик, третьи лица на стороне ответч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этап- рассмотрение д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этого судья заслушивает объяснения лиц, участвующих в деле (и соответственно их представителей), в следующей последовательност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ец, третьи лица на стороне истц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чик, третьи лица на стороне ответчи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этап- рассмотрение д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доказательст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ачале допрашивают свидетел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ем оглашают письменные доказательства, исследуют вещественные доказательства, воспроизводят и исследуют аудио- или видеозапись, исследуют заключение экспер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этап- рассмотрение д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доказательст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ачале допрашивают свидетеле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ем оглашают письменные доказательства, исследуют вещественные доказательства, воспроизводят и исследуют аудио- или видеозапись, исследуют заключение экспер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ий этап – судебные п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ления лиц, участвующих в деле с обоснованием своей правовой и фактической позиции, с учетом всех сведений и обстоятельств, которые были исследованы в ходе судебного засед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овательность выступления в прениях аналогична последовательности дачи объяснений: прокурор, истец и его представитель; ответчик и его представител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ий этап – судебные п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ления лиц, участвующих в деле с обоснованием своей правовой и фактической позиции, с учетом всех сведений и обстоятельств, которые были исследованы в ходе судебного засед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овательность выступления в прениях аналогична последовательности дачи объяснений: прокурор, истец и его представитель; ответчик и его представител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Последнее слово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Каждый имеет право выступить с речью (Приложение 3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Но последнее слово – подсудимого (право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ее сло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имеет право выступить с речью (Приложение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последнее слово – подсудимого (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кончании прений суд удаляется в совещательную комнату для вынесения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тут есть оговорка: если в прениях выявлены некоторые новые обстоятельства, суд может вернуться к судебному следств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й эта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кончании прений суд удаляется в совещательную комнату для вынесения ре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тут есть оговорка: если в прениях выявлены некоторые новые обстоятельства, суд может вернуться к судебному следств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ое ре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 принимает решение немедленно после рассмотрения дела в совещательной комнате, тайно, т.е. с участием только тех лиц, которые входят в состав с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ое ре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 принимает решение немедленно после рассмотрения дела в совещательной комнате, тайно, т.е. с участием только тех лиц, которые входят в состав с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вокупность отраслей, основная задача которых — определить правила судебного процесса, чтобы установить ИСТИ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вокупность отраслей, основная задача которых — определить правила судебного процесса, чтобы установить ИСТИН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ХРАНИТЕЛЬНЫЕ ОРГ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еральный прокурор назначается и освобождается Советом Федерации по представлению президента на 5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ку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енеральная п.,  п. субъектов РФ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 городов, район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осуществляет надзор  за исполнением зак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Наблюдает правильно ли исполняются 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Не нарушаются ли права гражда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Выступает на суде со стороны обви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Может не согласиться с решением суда, наложив на него проте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ХРАНИТЕЛЬНЫЕ ОРГ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еральный прокурор назначается и освобождается Советом Федерации по представлению президента на 5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ку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енеральная п.,  п. субъектов РФ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 городов, район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осуществляет надзор  за исполнением зако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Наблюдает правильно ли исполняются зак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Не нарушаются ли права гражда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Выступает на суде со стороны обв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Может не согласиться с решением суда, наложив на него протес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ХРАНИТЕЛЬНЫЕ ОРГ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вок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ово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дин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ст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ное д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м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гает составить необходимые документы (исковое заявл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ает защитником в су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адвоката оплачивается из средств кли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ХРАНИТЕЛЬНЫЕ ОРГ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вок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оволь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дин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стов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ное д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м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гает составить необходимые документы (исковое заявл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ает защитником в су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адвоката оплачивается из средств кли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стать, суд идет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евая иг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стать, суд идет!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евая иг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акрепляем изуч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яем изуч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акрепляем изуч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яем изуч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акрепляем изуч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яем изуч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акрепляем изуч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яем изуч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: уголовный проц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участникам уголовного процесса со стороны защиты относи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окур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ледов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одсудим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отерпевш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: уголовный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участникам уголовного процесса со стороны защиты относи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окур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ледова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одсудим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отерпевш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: уголовный проц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лицам, способствующим проведению уголовного процесса, относи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удим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знав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виняем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: уголовный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лицам, способствующим проведению уголовного процесса, относи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удим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знава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виняем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 – это порядок реализации и защиты материального прав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 – это порядок реализации и защиты материального прав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и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числу наиболее «старых» процессуальных отраслей относятся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о-процессуальное пра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-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-процес.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о-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онно-процес.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ЮТ    СУДО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числу наиболее «старых» процессуальных отраслей относятся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о-процессуальное прав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-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-процес.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о-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онно-процес.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ЮТ    СУДОПРОИЗВОД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истема судопроизводств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рбитражный суд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Разрешает экономические споры между гражданами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занимающими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едпринимательско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еятельностью,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и организациями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Мировые суды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рассматривают гражданские, уголовные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дминистративные дела незначительно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ложности в качеств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уда первой инстанции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Конституционный суд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отменяет законы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отиворечащи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Конституции и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нарушающие прав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граждан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ерховный суд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ажнейший орган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удебной власти по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гражданским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головным делам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судо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ый су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ешает экономические споры между гражданам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нимающими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ю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организац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суд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ют гражданские, уголовны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е дела незначитель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ости в каче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а первой инста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онный су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меняет закон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речащ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и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ающие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ховный су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й орг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ой власти 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ым дел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ое процессуальное право, арбитражный проц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ый суд рассматривает споры между юридическими лицами, гражданами, осуществляющими предпринимательскую деятельность без образования юридического лица и имеющими статус предпринимателя (граждане-предпринимател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ое процессуальное право, арбитражный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ый суд рассматривает споры между юридическими лицами, гражданами, осуществляющими предпринимательскую деятельность без образования юридического лица и имеющими статус предпринимателя (граждане-предпринимател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головный процесс и его участник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головный процессуальное право (уголовный процесс)  — это процесс государственных органов по расследованию и разрешению дел, связанных с совершением преступлений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I.Органы государства и должностные лица: суд (судья), прокурор, следователь, орган дознания и лицо, дознаватель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II. Участники уголовного процесса: подозреваемый, обвиняемый, их защитники, потерпевший, гражданский истец, гражданский ответчик и их представители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III. Лица, привлекаемые в процессе для содействия органам государства в выполнении задач правосудия: свидетель, эксперт, специалист, переводчик, понятые, секретарь судебного заседания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ый процесс и его участ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ый процессуальное право (уголовный процесс)  — это процесс государственных органов по расследованию и разрешению дел, связанных с совершением преступл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.Органы государства и должностные лица: суд (судья), прокурор, следователь, орган дознания и лицо, дознавател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. Участники уголовного процесса: подозреваемый, обвиняемый, их защитники, потерпевший, гражданский истец, гражданский ответчик и их представите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I. Лица, привлекаемые в процессе для содействия органам государства в выполнении задач правосудия: свидетель, эксперт, специалист, переводчик, понятые, секретарь судебного засед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удья на уголовном процесс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) судья единолично рассматривает дела (если санкция не превышает 10 лет лишения свободы)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б) судья и 12 присяжных заседателей (рассматривают дела, затрагивающие общественный интерес и имеющие общественный интерес, согласно перечню в УПК)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) коллегия из трех судей (дела о тяжких и особо тяжких преступлениях)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г) мировой судья (если санкция не превышает трех лет)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я на уголовном процес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удья единолично рассматривает дела (если санкция не превышает 10 лет лишения свободы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судья и 12 присяжных заседателей (рассматривают дела, затрагивающие общественный интерес и имеющие общественный интерес, согласно перечню в УПК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коллегия из трех судей (дела о тяжких и особо тяжких преступлениях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мировой судья (если санкция не превышает трех лет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Гражданский процесс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гражд-процессуальное право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частники гражданского  процесс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стец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тветчик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третьи лица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окурор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двокат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видетели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эксперты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пециалисты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Гражданское процессуальное право (процесс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это отрасль права, регулирующая порядок рассмотрения судом гражданских дел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й процесс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ражд-процессуальн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ники гражданского 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ец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чик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ьи лиц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курор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вокат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идетел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т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с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е процессуальное право (процес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трасль права, регулирующая порядок рассмотрения судом гражданских де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FAD4-3F75-49DB-9A70-C2F0E9B53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6613-031E-4C2D-91AD-FEE789AB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1866-68FE-4047-B2AC-AD77395F9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80C0-83C9-46F1-BDAD-BC40D577C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B38B-2F45-456B-9F6B-ED28BFBB9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23C0-FBE2-41AF-BFF9-B131B2BF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4FF7-F606-489C-8AD0-A60D4DF8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9D7F-61D3-4E42-B0C8-F56B2960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C85B-ED38-49CB-B31B-4A1B9314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170A-F5EE-4946-A6CC-7468456E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7F6E-E089-4E84-B34C-D2BD340C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20D9-F995-4FAA-8802-60BD6E01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8975-E0C2-4F82-A910-70B0B0AD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9CF0-5C3E-4574-9A72-3AC676F2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DA9E2-7697-44B0-9C64-A04C88A8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314C-A131-4FDF-A897-7A08F1E90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A443-A3C8-474A-B942-B9C49DEE6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AA1D2-2168-4EE0-9F74-E560E6DF3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9D23E-46D0-4CA9-887C-4A03BC17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1EC22-B46D-4941-8CD6-F157F538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FE24A-5446-4861-86FA-52273219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46626-9BCC-455D-8EC6-F58A9D07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AE43-C7F3-4903-8A32-C4C122F5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DBE47-DF42-47E9-9187-7771F7ED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BAF9A-A5F6-4EE7-A092-E8F83903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1C299-D46C-4CFD-8767-0D064383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F68B9-30F5-4EC5-A168-2A696830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54597-00C5-4976-A102-20045FE8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F5E10-314A-4F72-AAE6-C21DA83D8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5435D-2E09-4F43-A533-5D6A0E842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36725-0BAB-407A-BDA6-8B9C7D8A1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E3451-3F1D-4B4E-BFA6-6FE3547B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AA429-8B16-480B-9BF3-CBF37AA5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1841-C329-4B38-A33D-23EB0EC0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1B4E8-A8B4-4869-9941-D5ADD107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78091-4455-4ACA-84D9-C5FCFE33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9E67B-EF3A-48C1-9917-EA7718BD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6D554-3D35-42B5-93A4-51460EFB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05D62-4DB1-47B4-85CA-39A43BB7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BF3C7-72FD-4A41-8BE8-1DCD4492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C27DC-0013-44C1-ACC4-24E34209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5D65E-84C3-467E-8D77-099524022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8E650-574A-474E-8579-AAA4BCB65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1DEDD-71A0-49AC-AC30-1016C562A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D34C-BFFC-400D-ADFD-F896297A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53F5C-4EC5-442F-99A8-12712A93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2D85F-C03D-4E79-9920-51202D08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D53EF-6D96-41CA-8478-3DF1024C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60B7D-55A9-48EB-AA6B-48E5081F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A5462-15F2-4895-B800-10619764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42FD5-5E35-4384-92FB-F0667E82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16334-0BDA-4D1A-BDA6-A01DD262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FAF1D-74C4-4680-B082-9935405B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72644-10AA-4BFB-9BEA-4947E214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99155-B134-44FC-927D-1D3F09F15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1252-AEF5-4AC2-81B2-FEE63CE2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8E9A4-C410-44AA-91A2-C19A9C1C7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4F31C-A404-4956-9D26-10BD013C9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3C7A7-A427-4627-8DC8-9EBE2E3E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59319-953D-4574-B52D-82D159AB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5F3E6-D635-4F57-9679-80546EB3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12FEF-CBE2-436D-9B6A-78D58AA1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C52AB-F746-4866-AB2F-402BA9C1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21D61-103C-4B40-864C-A85F913F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C3EB1-2850-4E5B-8DAE-18443E11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5EFA7-54C9-4BA4-9A39-4339F4D5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8034-BE34-4F4E-9E62-E8629406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02AF9-01E6-4BDD-80C4-C191D0CD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03834-0F7A-44C2-AB97-7726C6EF7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5BA4C-6622-44CF-AEC6-AB2F94DC9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3A2EC-CB1C-4E5A-995F-7524C5A03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77BFF-253C-4AB2-8316-220D0754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FE7C4-120D-4DE4-B3CD-82DBF843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EDB8D-7152-4658-9D47-A2870118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17CB8-D1C2-4E8A-ABAC-E028DD23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CD268-F432-4B6A-AE90-41BBD623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0FFAE-9263-4A79-83E1-0C8C7FA8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EC8D-0665-4DF5-AF83-99232D31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7D140-DB0E-442F-B823-FC0BAF51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C29CE-378D-4D1F-82A6-4A2B27E9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8D050-69B0-4107-A46B-EA67031B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5047D-E47B-428F-91E8-9F567348A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7B2DC-AF15-424D-94FF-34E7F155C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0E2F-38FD-4290-A8C0-308A1F89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0508-0A3E-4997-B18E-0CCA97658189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DB4E-AA35-492D-94E4-5A4A3D201361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CEF0-37B3-42CC-A344-E9653F28C3AE}" type="datetime">
              <a:rPr b="0" lang="ru-RU" sz="1200" spc="-1" strike="noStrike">
                <a:solidFill>
                  <a:srgbClr val="ffffff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8075-EAEF-4843-B84E-306420D9A803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0319-3736-4A28-9643-842964D68D22}" type="datetime">
              <a:rPr b="0" lang="ru-RU" sz="1200" spc="-1" strike="noStrike">
                <a:solidFill>
                  <a:srgbClr val="ffffff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61EA-1291-4BF9-86E4-A0CF92BE04BD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6109-4D93-4DDC-AD99-3663207AE46F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4CC9-6CA9-4B8E-AF03-FEDB1EC30835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6ED4-37B1-4A10-8E43-831B3744B958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CE30-8D60-4612-92E9-1D78B623A687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F802-8576-40CE-9295-28D86EA79EC6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cbcbc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cbcbc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CDC0-22F4-4702-AAC8-5368A3C72370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8C74-5E99-4AC4-B367-934800637E27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430B-2B13-4076-9FC7-0E40B6B4F122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file:///&#1072;&#1076;&#1084;&#1080;&#1085;&#1080;&#1089;&#1090;&#1088;&#1072;&#1090;&#1080;&#1074;&#1085;&#1072;&#1103;%20&#1102;&#1088;&#1080;&#1089;&#1076;&#1080;&#1082;&#1089;&#1094;&#1080;&#1103;.ppsx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&#1087;&#1088;&#1072;&#1074;&#1086;&#1086;&#1079;&#1093;%20&#1086;&#1088;&#1075;&#1072;&#1085;&#1099;.pptx" TargetMode="External"/><Relationship Id="rId2" Type="http://schemas.openxmlformats.org/officeDocument/2006/relationships/image" Target="../media/image31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1"/>
          <a:stretch/>
        </p:blipFill>
        <p:spPr>
          <a:xfrm>
            <a:off x="901800" y="281160"/>
            <a:ext cx="7785000" cy="11397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3714480" y="1928520"/>
            <a:ext cx="5429160" cy="4530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Фемида (Юстиция)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богин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равосудия 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Древней Греци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Что означают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овязка на глазах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Весы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Меч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2"/>
          <a:stretch/>
        </p:blipFill>
        <p:spPr>
          <a:xfrm>
            <a:off x="0" y="1571760"/>
            <a:ext cx="3811680" cy="5075280"/>
          </a:xfrm>
          <a:prstGeom prst="rect">
            <a:avLst/>
          </a:prstGeom>
          <a:ln w="0">
            <a:noFill/>
          </a:ln>
        </p:spPr>
      </p:pic>
      <p:sp>
        <p:nvSpPr>
          <p:cNvPr id="313" name="Місце для нижнього колонтитула 1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213840" y="1773000"/>
            <a:ext cx="428148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Административный процесс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— это порядок осуществления </a:t>
            </a:r>
            <a:r>
              <a:rPr b="0" i="1" lang="ru-RU" sz="2800" spc="-1" strike="noStrike">
                <a:solidFill>
                  <a:srgbClr val="c00000"/>
                </a:solidFill>
                <a:latin typeface="Corbel"/>
              </a:rPr>
              <a:t>государственно-управленческой деятельности,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с целью реализации норм административного прав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7" name="Содержимое 7" descr="4618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86200" y="2286000"/>
            <a:ext cx="3900600" cy="2943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58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удья открывает заседание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ъявляет, какое дело рассматриваетс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веряет явку участников процесс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даляет из зала заседания свидетелей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ъявляет состав суда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4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Все участники процесса должны давать свои показания и объяснения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стоя,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к суду обращаются со словами: </a:t>
            </a:r>
            <a:r>
              <a:rPr b="1" lang="ru-RU" sz="3600" spc="-1" strike="noStrike">
                <a:solidFill>
                  <a:srgbClr val="c00000"/>
                </a:solidFill>
                <a:latin typeface="Corbel"/>
              </a:rPr>
              <a:t>«Уважаемый суд!»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4" name="Picture 4" descr=""/>
          <p:cNvPicPr/>
          <p:nvPr/>
        </p:nvPicPr>
        <p:blipFill>
          <a:blip r:embed="rId2"/>
          <a:stretch/>
        </p:blipFill>
        <p:spPr>
          <a:xfrm>
            <a:off x="8070840" y="139680"/>
            <a:ext cx="787320" cy="1049400"/>
          </a:xfrm>
          <a:prstGeom prst="rect">
            <a:avLst/>
          </a:prstGeom>
          <a:ln w="0">
            <a:noFill/>
          </a:ln>
        </p:spPr>
      </p:pic>
      <p:sp>
        <p:nvSpPr>
          <p:cNvPr id="365" name="Місце для нижнього колонтитула 1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удья докладывает дело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ясняет, поддерживает ли истец свои требования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изнает ли ответчик требования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 желают ли стороны закончить дело миро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8" name="Picture 4" descr=""/>
          <p:cNvPicPr/>
          <p:nvPr/>
        </p:nvPicPr>
        <p:blipFill>
          <a:blip r:embed="rId2"/>
          <a:stretch/>
        </p:blipFill>
        <p:spPr>
          <a:xfrm>
            <a:off x="8070840" y="139680"/>
            <a:ext cx="787320" cy="1049400"/>
          </a:xfrm>
          <a:prstGeom prst="rect">
            <a:avLst/>
          </a:prstGeom>
          <a:ln w="0">
            <a:noFill/>
          </a:ln>
        </p:spPr>
      </p:pic>
      <p:sp>
        <p:nvSpPr>
          <p:cNvPr id="369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сле этого судья заслушивает </a:t>
            </a:r>
            <a:r>
              <a:rPr b="1" lang="ru-RU" sz="3200" spc="-1" strike="noStrike">
                <a:solidFill>
                  <a:srgbClr val="c00000"/>
                </a:solidFill>
                <a:latin typeface="Corbel"/>
              </a:rPr>
              <a:t>объяснения лиц,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частвующих в деле (и соответственно их представителей), в следующей последовательности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стец, третьи лица на стороне истца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ветчик, третьи лица на стороне ответчика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Місце для нижнього колонтитула 3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ru-RU" sz="3200" spc="-1" strike="noStrike">
                <a:solidFill>
                  <a:srgbClr val="c00000"/>
                </a:solidFill>
                <a:latin typeface="Corbel"/>
              </a:rPr>
              <a:t>Исследование доказательств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начале допрашивают свидетелей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атем оглашают письменные доказательства, исследуют вещественные доказательства, воспроизводят и исследуют аудио- или видеозапись, исследуют заключение эксперта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orbel"/>
              </a:rPr>
              <a:t>ПРЕНИЯ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Выступления лиц, участвующих в деле с обоснованием своей правовой и фактической позиции, с учетом всех сведений и обстоятельств, которые были исследованы в ходе судебного заседания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оследовательность выступления в прениях аналогична последовательности дачи объяснений: прокурор, истец и его представитель; ответчик и его представитель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Місце для нижнього колонтитула 3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ждый имеет право выступить с речью (Приложение 3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о последнее слово – подсудимого (право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Прямоугольник 3"/>
          <p:cNvSpPr/>
          <p:nvPr/>
        </p:nvSpPr>
        <p:spPr>
          <a:xfrm>
            <a:off x="2286000" y="3105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 окончании прений суд удаляется в совещательную комнату для вынесения решени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днако тут есть оговорка: если в прениях выявлены некоторые новые обстоятельства, суд может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вернуться к судебному следствию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уд принимает решение немедленно после рассмотрения дела в совещательной комнате, тайно, т.е. с участием только тех лиц, которые входят в состав суд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это совокупность отраслей, основная задача которых — определить правила судебного процесса, чтобы установить </a:t>
            </a:r>
            <a:r>
              <a:rPr b="1" lang="ru-RU" sz="3600" spc="-1" strike="noStrike">
                <a:solidFill>
                  <a:srgbClr val="c00000"/>
                </a:solidFill>
                <a:latin typeface="Corbel"/>
              </a:rPr>
              <a:t>ИСТИНУ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6" name="Picture 4" descr=""/>
          <p:cNvPicPr/>
          <p:nvPr/>
        </p:nvPicPr>
        <p:blipFill>
          <a:blip r:embed="rId2"/>
          <a:stretch/>
        </p:blipFill>
        <p:spPr>
          <a:xfrm>
            <a:off x="8070840" y="139680"/>
            <a:ext cx="787320" cy="1049400"/>
          </a:xfrm>
          <a:prstGeom prst="rect">
            <a:avLst/>
          </a:prstGeom>
          <a:ln w="0">
            <a:noFill/>
          </a:ln>
        </p:spPr>
      </p:pic>
      <p:sp>
        <p:nvSpPr>
          <p:cNvPr id="317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6" descr=""/>
          <p:cNvPicPr/>
          <p:nvPr/>
        </p:nvPicPr>
        <p:blipFill>
          <a:blip r:embed="rId1"/>
          <a:stretch/>
        </p:blipFill>
        <p:spPr>
          <a:xfrm>
            <a:off x="1000080" y="3857760"/>
            <a:ext cx="2324160" cy="2786040"/>
          </a:xfrm>
          <a:prstGeom prst="rect">
            <a:avLst/>
          </a:prstGeom>
          <a:ln w="0">
            <a:noFill/>
          </a:ln>
        </p:spPr>
      </p:pic>
      <p:pic>
        <p:nvPicPr>
          <p:cNvPr id="390" name="Rectangle 2" descr=""/>
          <p:cNvPicPr/>
          <p:nvPr/>
        </p:nvPicPr>
        <p:blipFill>
          <a:blip r:embed="rId2"/>
          <a:stretch/>
        </p:blipFill>
        <p:spPr>
          <a:xfrm>
            <a:off x="500040" y="285840"/>
            <a:ext cx="8229600" cy="11412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285840" y="1356840"/>
            <a:ext cx="3889440" cy="26211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 Black"/>
              </a:rPr>
              <a:t>   </a:t>
            </a:r>
            <a:r>
              <a:rPr b="1" lang="ru-RU" sz="2200" spc="-1" strike="noStrike">
                <a:solidFill>
                  <a:srgbClr val="ff0000"/>
                </a:solidFill>
                <a:latin typeface="Arial Black"/>
              </a:rPr>
              <a:t>Генеральный прокурор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</a:rPr>
              <a:t>назначается и освобождается Советом Федерации по представлению президента на 5 лет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211640" y="1628280"/>
            <a:ext cx="4681440" cy="492444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txBody>
          <a:bodyPr lIns="54720" tIns="91440" anchor="t">
            <a:normAutofit/>
          </a:bodyPr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Arial Black"/>
              </a:rPr>
              <a:t>Прокуратура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0000"/>
                </a:solidFill>
                <a:latin typeface="Arial Black"/>
              </a:rPr>
              <a:t>(Генеральная п.,  п. субъектов РФ, 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0000"/>
                </a:solidFill>
                <a:latin typeface="Arial Black"/>
              </a:rPr>
              <a:t>п. городов, районов)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Black"/>
              </a:rPr>
              <a:t>* осуществляет надзор  за исполнением законов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Black"/>
              </a:rPr>
              <a:t>* Наблюдает правильно ли исполняются законы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Black"/>
              </a:rPr>
              <a:t>* Не нарушаются ли права граждан?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Black"/>
              </a:rPr>
              <a:t>* Выступает на суде со стороны обвинения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Black"/>
              </a:rPr>
              <a:t>* Может не согласиться с решением суда, наложив на него протест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4211640" y="3429000"/>
          <a:ext cx="4681440" cy="457200"/>
        </p:xfrm>
        <a:graphic>
          <a:graphicData uri="http://schemas.openxmlformats.org/drawingml/2006/table">
            <a:tbl>
              <a:tblPr/>
              <a:tblGrid>
                <a:gridCol w="2305080"/>
                <a:gridCol w="2376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4" name="Місце для нижнього колонтитула 1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2071800"/>
            <a:ext cx="2068560" cy="3071880"/>
          </a:xfrm>
          <a:prstGeom prst="rect">
            <a:avLst/>
          </a:prstGeom>
          <a:ln w="0">
            <a:noFill/>
          </a:ln>
        </p:spPr>
      </p:pic>
      <p:pic>
        <p:nvPicPr>
          <p:cNvPr id="396" name="Rectangle 2" descr=""/>
          <p:cNvPicPr/>
          <p:nvPr/>
        </p:nvPicPr>
        <p:blipFill>
          <a:blip r:embed="rId3"/>
          <a:stretch/>
        </p:blipFill>
        <p:spPr>
          <a:xfrm>
            <a:off x="500040" y="285840"/>
            <a:ext cx="8229600" cy="11412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0" y="2071440"/>
            <a:ext cx="3214800" cy="40719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Адвокатур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Добровольно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бъединение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юристов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озданное для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авово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омощ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физическим 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юридическим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лицам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5214960" y="1773000"/>
            <a:ext cx="3471840" cy="4624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7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омогает составить необходимые документы (исковое заявление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ыступает защитником в суд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Деятельность адвоката оплачивается из средств клиент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4" descr=""/>
          <p:cNvPicPr/>
          <p:nvPr/>
        </p:nvPicPr>
        <p:blipFill>
          <a:blip r:embed="rId1"/>
          <a:stretch/>
        </p:blipFill>
        <p:spPr>
          <a:xfrm>
            <a:off x="689040" y="3359160"/>
            <a:ext cx="8076960" cy="167004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Ролевая игр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2" name="Picture 4" descr=""/>
          <p:cNvPicPr/>
          <p:nvPr/>
        </p:nvPicPr>
        <p:blipFill>
          <a:blip r:embed="rId2"/>
          <a:stretch/>
        </p:blipFill>
        <p:spPr>
          <a:xfrm>
            <a:off x="5784840" y="549360"/>
            <a:ext cx="2968560" cy="3949560"/>
          </a:xfrm>
          <a:prstGeom prst="rect">
            <a:avLst/>
          </a:prstGeom>
          <a:ln w="0">
            <a:noFill/>
          </a:ln>
        </p:spPr>
      </p:pic>
      <p:sp>
        <p:nvSpPr>
          <p:cNvPr id="403" name="Місце для нижнього колонтитула 1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3" descr=""/>
          <p:cNvPicPr/>
          <p:nvPr/>
        </p:nvPicPr>
        <p:blipFill>
          <a:blip r:embed="rId2"/>
          <a:srcRect l="0" t="0" r="0" b="84963"/>
          <a:stretch/>
        </p:blipFill>
        <p:spPr>
          <a:xfrm>
            <a:off x="714240" y="1714680"/>
            <a:ext cx="7715520" cy="2143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06" name="Содержимое 4" descr=""/>
          <p:cNvPicPr/>
          <p:nvPr/>
        </p:nvPicPr>
        <p:blipFill>
          <a:blip r:embed="rId3"/>
          <a:srcRect l="0" t="37064" r="0" b="47495"/>
          <a:stretch/>
        </p:blipFill>
        <p:spPr>
          <a:xfrm>
            <a:off x="785880" y="4071960"/>
            <a:ext cx="7786800" cy="2428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07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409" name="Содержимое 4" descr=""/>
          <p:cNvPicPr/>
          <p:nvPr/>
        </p:nvPicPr>
        <p:blipFill>
          <a:blip r:embed="rId2"/>
          <a:srcRect l="0" t="53462" r="0" b="15093"/>
          <a:stretch/>
        </p:blipFill>
        <p:spPr>
          <a:xfrm>
            <a:off x="285840" y="1571760"/>
            <a:ext cx="8429400" cy="4929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10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412" name="Содержимое 4" descr=""/>
          <p:cNvPicPr/>
          <p:nvPr/>
        </p:nvPicPr>
        <p:blipFill>
          <a:blip r:embed="rId2"/>
          <a:srcRect l="2316" t="32433" r="51738" b="42864"/>
          <a:stretch/>
        </p:blipFill>
        <p:spPr>
          <a:xfrm>
            <a:off x="285840" y="1714680"/>
            <a:ext cx="8501040" cy="4214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13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415" name="Содержимое 4" descr=""/>
          <p:cNvPicPr/>
          <p:nvPr/>
        </p:nvPicPr>
        <p:blipFill>
          <a:blip r:embed="rId2"/>
          <a:srcRect l="2094" t="57141" r="53081" b="22785"/>
          <a:stretch/>
        </p:blipFill>
        <p:spPr>
          <a:xfrm>
            <a:off x="142920" y="1857240"/>
            <a:ext cx="8858160" cy="4000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16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Содержимое 4" descr=""/>
          <p:cNvPicPr/>
          <p:nvPr/>
        </p:nvPicPr>
        <p:blipFill>
          <a:blip r:embed="rId1"/>
          <a:srcRect l="2044" t="77220" r="52555" b="7197"/>
          <a:stretch/>
        </p:blipFill>
        <p:spPr>
          <a:xfrm>
            <a:off x="357120" y="0"/>
            <a:ext cx="7929720" cy="1857240"/>
          </a:xfrm>
          <a:prstGeom prst="rect">
            <a:avLst/>
          </a:prstGeom>
          <a:ln w="0">
            <a:noFill/>
          </a:ln>
        </p:spPr>
      </p:pic>
      <p:pic>
        <p:nvPicPr>
          <p:cNvPr id="418" name="Содержимое 4" descr=""/>
          <p:cNvPicPr/>
          <p:nvPr/>
        </p:nvPicPr>
        <p:blipFill>
          <a:blip r:embed="rId2"/>
          <a:srcRect l="52287" t="0" r="829" b="61775"/>
          <a:stretch/>
        </p:blipFill>
        <p:spPr>
          <a:xfrm>
            <a:off x="285840" y="1785960"/>
            <a:ext cx="8072280" cy="4857840"/>
          </a:xfrm>
          <a:prstGeom prst="rect">
            <a:avLst/>
          </a:prstGeom>
          <a:ln w="0">
            <a:noFill/>
          </a:ln>
        </p:spPr>
      </p:pic>
      <p:sp>
        <p:nvSpPr>
          <p:cNvPr id="419" name="Місце для нижнього колонтитула 1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 участникам уголовного процесса со стороны защиты относитс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прокурор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следовател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подсудимы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потерпевши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2"/>
          <a:stretch/>
        </p:blipFill>
        <p:spPr>
          <a:xfrm>
            <a:off x="5430960" y="2646360"/>
            <a:ext cx="2970000" cy="3949560"/>
          </a:xfrm>
          <a:prstGeom prst="rect">
            <a:avLst/>
          </a:prstGeom>
          <a:ln w="0">
            <a:noFill/>
          </a:ln>
        </p:spPr>
      </p:pic>
      <p:sp>
        <p:nvSpPr>
          <p:cNvPr id="423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 лицам, способствующим проведению уголовного процесса, относитс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дсудимы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ознавател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виняемы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нято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6" name="Picture 4" descr=""/>
          <p:cNvPicPr/>
          <p:nvPr/>
        </p:nvPicPr>
        <p:blipFill>
          <a:blip r:embed="rId2"/>
          <a:stretch/>
        </p:blipFill>
        <p:spPr>
          <a:xfrm>
            <a:off x="5430960" y="2646360"/>
            <a:ext cx="2970000" cy="3949560"/>
          </a:xfrm>
          <a:prstGeom prst="rect">
            <a:avLst/>
          </a:prstGeom>
          <a:ln w="0">
            <a:noFill/>
          </a:ln>
        </p:spPr>
      </p:pic>
      <p:sp>
        <p:nvSpPr>
          <p:cNvPr id="427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426960" y="1859040"/>
            <a:ext cx="8229600" cy="3865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"/>
          <p:cNvPicPr/>
          <p:nvPr/>
        </p:nvPicPr>
        <p:blipFill>
          <a:blip r:embed="rId2"/>
          <a:stretch/>
        </p:blipFill>
        <p:spPr>
          <a:xfrm>
            <a:off x="8070840" y="139680"/>
            <a:ext cx="787320" cy="1049400"/>
          </a:xfrm>
          <a:prstGeom prst="rect">
            <a:avLst/>
          </a:prstGeom>
          <a:ln w="0">
            <a:noFill/>
          </a:ln>
        </p:spPr>
      </p:pic>
      <p:sp>
        <p:nvSpPr>
          <p:cNvPr id="320" name="Місце для нижнього колонтитула 3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цессуальное прав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атериальное прав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расли прав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истема прав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ава человек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30" name="Picture 4" descr=""/>
          <p:cNvPicPr/>
          <p:nvPr/>
        </p:nvPicPr>
        <p:blipFill>
          <a:blip r:embed="rId2"/>
          <a:stretch/>
        </p:blipFill>
        <p:spPr>
          <a:xfrm>
            <a:off x="5357880" y="2646360"/>
            <a:ext cx="2968560" cy="3949560"/>
          </a:xfrm>
          <a:prstGeom prst="rect">
            <a:avLst/>
          </a:prstGeom>
          <a:ln w="0">
            <a:noFill/>
          </a:ln>
        </p:spPr>
      </p:pic>
      <p:sp>
        <p:nvSpPr>
          <p:cNvPr id="431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Заголовок 1" descr=""/>
          <p:cNvPicPr/>
          <p:nvPr/>
        </p:nvPicPr>
        <p:blipFill>
          <a:blip r:embed="rId1"/>
          <a:stretch/>
        </p:blipFill>
        <p:spPr>
          <a:xfrm>
            <a:off x="139680" y="158760"/>
            <a:ext cx="8791560" cy="16272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285840" y="2000160"/>
            <a:ext cx="8400960" cy="45007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7000"/>
          </a:bodyPr>
          <a:p>
            <a:pPr marL="380880" indent="-2772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Уголовно-процессуальное право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Гражданско-процессуальное право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Административно-процес. право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Арбитражно-процессуальное право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Конституционно-процес. право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00000"/>
                </a:solidFill>
                <a:uFillTx/>
                <a:latin typeface="Corbel"/>
              </a:rPr>
              <a:t>РЕГУЛИРУЮТ    СУДОПРОИЗВОДСТВО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8070840" y="139680"/>
            <a:ext cx="787320" cy="104940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13" descr=""/>
          <p:cNvPicPr/>
          <p:nvPr/>
        </p:nvPicPr>
        <p:blipFill>
          <a:blip r:embed="rId1"/>
          <a:stretch/>
        </p:blipFill>
        <p:spPr>
          <a:xfrm>
            <a:off x="7524720" y="3643200"/>
            <a:ext cx="1619280" cy="12146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2" descr=""/>
          <p:cNvPicPr/>
          <p:nvPr/>
        </p:nvPicPr>
        <p:blipFill>
          <a:blip r:embed="rId2"/>
          <a:srcRect l="0" t="-364" r="0" b="0"/>
          <a:stretch/>
        </p:blipFill>
        <p:spPr>
          <a:xfrm>
            <a:off x="7500960" y="1714680"/>
            <a:ext cx="1427040" cy="17888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1" descr=""/>
          <p:cNvPicPr/>
          <p:nvPr/>
        </p:nvPicPr>
        <p:blipFill>
          <a:blip r:embed="rId3"/>
          <a:stretch/>
        </p:blipFill>
        <p:spPr>
          <a:xfrm>
            <a:off x="2786040" y="4857840"/>
            <a:ext cx="2060640" cy="13748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0" descr=""/>
          <p:cNvPicPr/>
          <p:nvPr/>
        </p:nvPicPr>
        <p:blipFill>
          <a:blip r:embed="rId4"/>
          <a:stretch/>
        </p:blipFill>
        <p:spPr>
          <a:xfrm>
            <a:off x="3214800" y="2500200"/>
            <a:ext cx="1512720" cy="1241640"/>
          </a:xfrm>
          <a:prstGeom prst="rect">
            <a:avLst/>
          </a:prstGeom>
          <a:ln w="0">
            <a:noFill/>
          </a:ln>
        </p:spPr>
      </p:pic>
      <p:pic>
        <p:nvPicPr>
          <p:cNvPr id="329" name="Rectangle 2" descr=""/>
          <p:cNvPicPr/>
          <p:nvPr/>
        </p:nvPicPr>
        <p:blipFill>
          <a:blip r:embed="rId5"/>
          <a:stretch/>
        </p:blipFill>
        <p:spPr>
          <a:xfrm>
            <a:off x="500040" y="212760"/>
            <a:ext cx="8229600" cy="12254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68000" y="3860280"/>
            <a:ext cx="3311640" cy="234180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txBody>
          <a:bodyPr tIns="91440" anchor="t">
            <a:normAutofit/>
          </a:bodyPr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Арбитражный суд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Разрешает экономические споры между гражданами,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занимающимися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предпринимательской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деятельностью,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и организациями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858920" y="3789000"/>
            <a:ext cx="3745080" cy="237636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Мировые суды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рассматривают гражданские, уголовные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дминистративные дела незначительной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ложности в качестве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уда первой инстанци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468360" y="1700280"/>
            <a:ext cx="3348000" cy="17398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Конституционный су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отменяет зако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ротивореча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онституци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арушающие 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гражд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4859280" y="1700280"/>
            <a:ext cx="2641680" cy="146556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Верховный су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ажнейший орг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удебной власти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граждански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уголовным дел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4" descr=""/>
          <p:cNvPicPr/>
          <p:nvPr/>
        </p:nvPicPr>
        <p:blipFill>
          <a:blip r:embed="rId6"/>
          <a:stretch/>
        </p:blipFill>
        <p:spPr>
          <a:xfrm>
            <a:off x="7931160" y="139680"/>
            <a:ext cx="927000" cy="1049400"/>
          </a:xfrm>
          <a:prstGeom prst="rect">
            <a:avLst/>
          </a:prstGeom>
          <a:ln w="0">
            <a:noFill/>
          </a:ln>
        </p:spPr>
      </p:pic>
      <p:sp>
        <p:nvSpPr>
          <p:cNvPr id="335" name="Місце для нижнього колонтитула 1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Заголовок 4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рбитражный суд рассматривает споры между юридическими лицами, гражданами, </a:t>
            </a:r>
            <a:r>
              <a:rPr b="1" lang="ru-RU" sz="3200" spc="-1" strike="noStrike">
                <a:solidFill>
                  <a:srgbClr val="c00000"/>
                </a:solidFill>
                <a:latin typeface="Corbel"/>
              </a:rPr>
              <a:t>осуществляющими предпринимательскую деятельность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ез образования юридического лица и имеющими статус предпринимателя (граждане-предприниматели)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2"/>
          <a:stretch/>
        </p:blipFill>
        <p:spPr>
          <a:xfrm>
            <a:off x="8070840" y="139680"/>
            <a:ext cx="787320" cy="1049400"/>
          </a:xfrm>
          <a:prstGeom prst="rect">
            <a:avLst/>
          </a:prstGeom>
          <a:ln w="0">
            <a:noFill/>
          </a:ln>
        </p:spPr>
      </p:pic>
      <p:sp>
        <p:nvSpPr>
          <p:cNvPr id="339" name="Місце для нижнього колонтитула 1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142920" y="1857240"/>
            <a:ext cx="4038480" cy="46245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Уголовный процессуальное право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(уголовный процесс)  — это процесс государственных органов по расследованию и разрешению дел, </a:t>
            </a:r>
            <a:r>
              <a:rPr b="1" lang="ru-RU" sz="2400" spc="-1" strike="noStrike">
                <a:solidFill>
                  <a:srgbClr val="c00000"/>
                </a:solidFill>
                <a:latin typeface="Corbel"/>
              </a:rPr>
              <a:t>связанных с совершением преступлений.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214880" y="1714680"/>
            <a:ext cx="4643280" cy="50004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I.</a:t>
            </a:r>
            <a:r>
              <a:rPr b="1" lang="ru-RU" sz="2200" spc="-1" strike="noStrike">
                <a:solidFill>
                  <a:srgbClr val="0070c0"/>
                </a:solidFill>
                <a:latin typeface="Corbel"/>
              </a:rPr>
              <a:t>Органы государства и должностные лица</a:t>
            </a:r>
            <a:r>
              <a:rPr b="0" lang="ru-RU" sz="2200" spc="-1" strike="noStrike">
                <a:solidFill>
                  <a:srgbClr val="0070c0"/>
                </a:solidFill>
                <a:latin typeface="Corbel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уд (судья), прокурор, следователь, орган дознания и лицо, дознаватель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II. </a:t>
            </a:r>
            <a:r>
              <a:rPr b="1" lang="ru-RU" sz="2200" spc="-1" strike="noStrike">
                <a:solidFill>
                  <a:srgbClr val="0070c0"/>
                </a:solidFill>
                <a:latin typeface="Corbel"/>
              </a:rPr>
              <a:t>Участники уголовного процесса: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одозреваемый, обвиняемый, их защитники, потерпевший, гражданский истец, гражданский ответчик и их представители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III. </a:t>
            </a:r>
            <a:r>
              <a:rPr b="1" lang="ru-RU" sz="2200" spc="-1" strike="noStrike">
                <a:solidFill>
                  <a:srgbClr val="0070c0"/>
                </a:solidFill>
                <a:latin typeface="Corbel"/>
              </a:rPr>
              <a:t>Лица, привлекаемые в процессе для содействия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органам государства в выполнении задач правосудия: свидетель, эксперт, специалист, переводчик, понятые, секретарь судебного заседани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3" name="Picture 4" descr=""/>
          <p:cNvPicPr/>
          <p:nvPr/>
        </p:nvPicPr>
        <p:blipFill>
          <a:blip r:embed="rId2"/>
          <a:stretch/>
        </p:blipFill>
        <p:spPr>
          <a:xfrm>
            <a:off x="8070840" y="139680"/>
            <a:ext cx="787320" cy="1049400"/>
          </a:xfrm>
          <a:prstGeom prst="rect">
            <a:avLst/>
          </a:prstGeom>
          <a:ln w="0">
            <a:noFill/>
          </a:ln>
        </p:spPr>
      </p:pic>
      <p:sp>
        <p:nvSpPr>
          <p:cNvPr id="344" name="Місце для нижнього колонтитула 5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285840" y="1571400"/>
            <a:ext cx="4572000" cy="50720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а)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судья единолично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рассматривает дела (если санкция не превышает 10 лет лишения свободы);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б)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судья и 12 присяжных заседателей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(рассматривают дела, затрагивающие общественный интерес и имеющие общественный интерес, согласно перечню в УПК);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)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коллегия из трех судей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(дела о тяжких и особо тяжких преступлениях);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г)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мировой судья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(если санкция не превышает трех лет)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7" name="Содержимое 4" descr="image31.png"/>
          <p:cNvPicPr/>
          <p:nvPr/>
        </p:nvPicPr>
        <p:blipFill>
          <a:blip r:embed="rId2"/>
          <a:stretch/>
        </p:blipFill>
        <p:spPr>
          <a:xfrm>
            <a:off x="4786200" y="1857240"/>
            <a:ext cx="3953160" cy="4086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48" name="Місце для нижнього колонтитула 3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356760" y="1698120"/>
            <a:ext cx="4140360" cy="71604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УЧАСТНИКИ ГРАЖДАНСКОГО  ПРОЦЕСС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99680" y="228600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истец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ответчик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третьи лица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прокурор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адвокат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свидетели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эксперты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специалист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428720" y="2428920"/>
            <a:ext cx="4429080" cy="32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     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Гражданское процессуальное право (процесс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это отрасль права, регулирующая порядок рассмотрения судом гражданских дел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644720" y="1698120"/>
            <a:ext cx="4041720" cy="716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1:11:46Z</dcterms:created>
  <dc:creator>Учитель</dc:creator>
  <dc:description/>
  <dc:language>en-US</dc:language>
  <cp:lastModifiedBy>LEGION</cp:lastModifiedBy>
  <dcterms:modified xsi:type="dcterms:W3CDTF">2016-01-04T08:10:28Z</dcterms:modified>
  <cp:revision>65</cp:revision>
  <dc:subject/>
  <dc:title>Процессуальное право</dc:title>
</cp:coreProperties>
</file>